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6541-83D0-46A9-8CF5-046039E3BA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75B9-708A-48F3-830A-FA5EB1D6B4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159-E7CD-4B2C-9A8E-0ED9304B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054-4F49-4150-85DC-5DE4FD09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69BB-908C-419B-A962-7922FB38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27D-A2FE-4DB9-9FA9-DE9A55CD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4865-915B-4770-9A97-A533B915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39C-8B32-42CE-8BC0-750F607E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27C-DDE2-4524-953A-0A8521C6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A88-F4DD-424C-873A-FD1EEC96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9D75-EE56-4F88-AEEC-2417AAE2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2A4-D1A0-492A-AAE0-A2AE5B70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DEB-7316-45CB-BE85-EA51B195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601-E0DD-4E16-803A-DB083085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727F-D038-4A99-ACD9-5DF140AD9F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60 секунд, которые изменят вашу жизнь.mp4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25804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920" y="165240"/>
            <a:ext cx="691344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отив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123920"/>
            <a:ext cx="8424720" cy="75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спользование метафор(обсуждение рисунков)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бсуждение древней или современной       прит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монстрация мультфильмов, снятых по мотивам притч и их об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удрые изречения философов, цитаты пис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ьское собрание включает в себ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основных компонен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Анализ учебных достижений учащихся кла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Знакомство родителей с состоянием эмоционального климата в клас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Психолого - педагогическое просвещ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Обсуждение организационных во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Рефлекс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Личные беседы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4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гровые мо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Users\user\Desktop\eZre0fd_B9A.jpg"/>
          <p:cNvPicPr/>
          <p:nvPr/>
        </p:nvPicPr>
        <p:blipFill>
          <a:blip r:embed="rId1"/>
          <a:stretch/>
        </p:blipFill>
        <p:spPr>
          <a:xfrm>
            <a:off x="3780000" y="1892160"/>
            <a:ext cx="25873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4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892160"/>
            <a:ext cx="8136000" cy="40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произнести цит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упражнение «портфельч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вручение памя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лько в единстве процесса обучения и воспитания и при активном участии в нем сообществ: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к, родитель и учитель, можно считать ученика моделью высоко качественного воспитания и образования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92"/>
          <p:cNvPicPr/>
          <p:nvPr/>
        </p:nvPicPr>
        <p:blipFill>
          <a:blip r:embed="rId1"/>
          <a:stretch/>
        </p:blipFill>
        <p:spPr>
          <a:xfrm>
            <a:off x="0" y="4394160"/>
            <a:ext cx="168264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ершенствование работы с родителями в условиях модернизации образовательн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55280" y="4292280"/>
            <a:ext cx="748836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Совершенствование работы с родителями в условиях модернизации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нно семейное воспитание во многом определяет, каким станет человек. Ни государство, ни даже лучшие педагоги ребенку заменить семью не могут». В. В. Пути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11120" y="3860640"/>
            <a:ext cx="4176720" cy="2560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280" y="1413000"/>
            <a:ext cx="8075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ндивиду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Групп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оллекти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уальны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осещение на д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риглашение в шко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индивидуальные консультации           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уппов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дительский лектор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ематические консуль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лассные детские мероприя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дительские веч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лектив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классные родительские соб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емейные клу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бщешкольные родительские соб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дни открытых две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конце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выставки учебных раб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ворческие отч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9:59:56Z</dcterms:created>
  <dc:creator>AK</dc:creator>
  <dc:description/>
  <dc:language>en-US</dc:language>
  <cp:lastModifiedBy>User</cp:lastModifiedBy>
  <dcterms:modified xsi:type="dcterms:W3CDTF">2019-01-16T12:46:17Z</dcterms:modified>
  <cp:revision>51</cp:revision>
  <dc:subject/>
  <dc:title>Слайд 1</dc:title>
</cp:coreProperties>
</file>