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A211-099C-4F89-834D-87B0F56C0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63DF-449E-40E4-A820-09A8DD1C25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565-496C-4B93-911E-478E827A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8C1-125D-4247-923E-1B6C8D12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8E4-206A-4902-A4DF-C654AEBC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328-7BD5-4C7C-A3CB-5119E391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A19-0FC3-4FD7-ABF1-7738D3BF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07A-F17D-462B-9A5C-A34817B5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7A2-6B7F-4D93-9536-23225D54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4CC-7A55-4085-8514-F1BA428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373-80E7-4AD3-B024-ED037D1C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24F-2C0E-458D-9FCC-214A0C99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D9D-D824-44FF-9211-4112B29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0B6-C5FC-43E5-9FB6-92D709F1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DEAB-52C4-435C-8B14-C2820C853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0 секунд, которые изменят вашу жизнь.mp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25804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691344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123920"/>
            <a:ext cx="8424720" cy="75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спользование метафор(обсуждение рисунков)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суждение древней или современной       прит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монстрация мультфильмов, снятых по мотивам притч и их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удрые изречения философов, цитаты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ьское собрание включает в себ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основных компон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Анализ учебных достижений учащихся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Знакомство родителей с состоянием эмоционального климата в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сихолого - педагогическое просвещ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Обсуждение организационных во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флек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Личные беседы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гровые мо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user\Desktop\eZre0fd_B9A.jpg"/>
          <p:cNvPicPr/>
          <p:nvPr/>
        </p:nvPicPr>
        <p:blipFill>
          <a:blip r:embed="rId1"/>
          <a:stretch/>
        </p:blipFill>
        <p:spPr>
          <a:xfrm>
            <a:off x="3780000" y="1892160"/>
            <a:ext cx="2587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892160"/>
            <a:ext cx="8136000" cy="40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произнести ци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упражнение «портфель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вручение памя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в единстве процесса обучения и воспитания и при активном участии в нем сообществ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, родитель и учитель, можно считать ученика моделью высоко качественного воспитания и образова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92"/>
          <p:cNvPicPr/>
          <p:nvPr/>
        </p:nvPicPr>
        <p:blipFill>
          <a:blip r:embed="rId1"/>
          <a:stretch/>
        </p:blipFill>
        <p:spPr>
          <a:xfrm>
            <a:off x="0" y="4394160"/>
            <a:ext cx="168264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55280" y="4292280"/>
            <a:ext cx="74883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но семейное воспитание во многом определяет, каким станет человек. Ни государство, ни даже лучшие педагоги ребенку заменить семью не могут». В. В. Пути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11120" y="3860640"/>
            <a:ext cx="4176720" cy="256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рупп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осещение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иглашение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индивидуальные консультации           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й лек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матические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лассные детские меро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е веч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ласс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емейные кл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бщешколь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ни открытых д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онц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ыставки учебных р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ворческие 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59:56Z</dcterms:created>
  <dc:creator>AK</dc:creator>
  <dc:description/>
  <dc:language>en-US</dc:language>
  <cp:lastModifiedBy>User</cp:lastModifiedBy>
  <dcterms:modified xsi:type="dcterms:W3CDTF">2019-01-16T12:46:17Z</dcterms:modified>
  <cp:revision>51</cp:revision>
  <dc:subject/>
  <dc:title>Слайд 1</dc:title>
</cp:coreProperties>
</file>