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D9C3-86A2-40DC-96E3-DF85E156CC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F35A-F621-413B-9BFE-174519EC44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F859-2929-4126-97B7-21AEF5A0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AC3D-1755-48ED-87AF-2997E0FC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B82D-F5BA-4334-821A-247EAC2B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F683-7719-43CA-AE5B-3F3BE1DE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10E7-BC1F-4DFB-B0ED-50C6D100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0777-65F6-413B-8F02-3AE186B5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817A-E040-4638-86C7-21F4B975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D48D-F619-4235-A649-0AB25519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09F8-954E-40AF-8190-E4E98EED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7FAD-A114-4954-848E-A4E69E5A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4E28-61FD-44EF-A243-38256B38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9C3F-B863-473B-B0EE-4406F816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F6F0-4679-4B8F-A556-6210B0DBF3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60 секунд, которые изменят вашу жизнь.mp4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258040" cy="61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920" y="165240"/>
            <a:ext cx="691344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отив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95280" y="1123920"/>
            <a:ext cx="8424720" cy="75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спользование метафор(обсуждение рисунков)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бсуждение древней или современной       прит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демонстрация мультфильмов, снятых по мотивам притч и их об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удрые изречения философов, цитаты пис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ительское собрание включает в себя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основных компонен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Анализ учебных достижений учащихся кла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Знакомство родителей с состоянием эмоционального климата в класс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Психолого - педагогическое просвещ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Обсуждение организационных во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Рефлекс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74"/>
              </a:spcBef>
              <a:spcAft>
                <a:spcPts val="374"/>
              </a:spcAft>
              <a:buClr>
                <a:srgbClr val="224b5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4b50"/>
                </a:solidFill>
                <a:latin typeface="Times New Roman"/>
                <a:ea typeface="Times New Roman"/>
              </a:rPr>
              <a:t>Личные беседы с родите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4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гровые мо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C:\Users\user\Desktop\eZre0fd_B9A.jpg"/>
          <p:cNvPicPr/>
          <p:nvPr/>
        </p:nvPicPr>
        <p:blipFill>
          <a:blip r:embed="rId1"/>
          <a:stretch/>
        </p:blipFill>
        <p:spPr>
          <a:xfrm>
            <a:off x="3780000" y="1892160"/>
            <a:ext cx="258732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4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892160"/>
            <a:ext cx="8136000" cy="40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4b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4b50"/>
                </a:solidFill>
                <a:latin typeface="Arial"/>
              </a:rPr>
              <a:t>произнести цита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4b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4b50"/>
                </a:solidFill>
                <a:latin typeface="Arial"/>
              </a:rPr>
              <a:t>упражнение «портфельч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4b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4b50"/>
                </a:solidFill>
                <a:latin typeface="Arial"/>
              </a:rPr>
              <a:t>вручение памя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360" y="62064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лько в единстве процесса обучения и воспитания и при активном участии в нем сообществ: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ник, родитель и учитель, можно считать ученика моделью высоко качественного воспитания и образования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92"/>
          <p:cNvPicPr/>
          <p:nvPr/>
        </p:nvPicPr>
        <p:blipFill>
          <a:blip r:embed="rId1"/>
          <a:stretch/>
        </p:blipFill>
        <p:spPr>
          <a:xfrm>
            <a:off x="0" y="4394160"/>
            <a:ext cx="1682640" cy="244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98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вершенствование работы с родителями в условиях модернизации образовательного проц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55280" y="4292280"/>
            <a:ext cx="7488360" cy="17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Arial"/>
              </a:rPr>
              <a:t>Совершенствование работы с родителями в условиях модернизации образов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4360" y="620640"/>
            <a:ext cx="82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3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нно семейное воспитание во многом определяет, каким станет человек. Ни государство, ни даже лучшие педагоги ребенку заменить семью не могут». В. В. Путин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11120" y="3860640"/>
            <a:ext cx="4176720" cy="2560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орм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1280" y="1413000"/>
            <a:ext cx="8075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Индивиду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Групп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оллектив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уальны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осещение на д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риглашение в школ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индивидуальные консультации            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уппов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одительский лектор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тематические консульт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лассные детские мероприя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родительские веч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ллектив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классные родительские соб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семейные клу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общешкольные родительские собр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дни открытых две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конце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выставки учебных рабо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2222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творческие отч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09:59:56Z</dcterms:created>
  <dc:creator>AK</dc:creator>
  <dc:description/>
  <dc:language>en-US</dc:language>
  <cp:lastModifiedBy>User</cp:lastModifiedBy>
  <dcterms:modified xsi:type="dcterms:W3CDTF">2019-01-16T12:46:17Z</dcterms:modified>
  <cp:revision>51</cp:revision>
  <dc:subject/>
  <dc:title>Слайд 1</dc:title>
</cp:coreProperties>
</file>