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BAF4A-052D-4AB5-A42E-09CA259B5D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9BEE7-D1AA-42AA-A96D-18D1B994A1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44A6-1374-434C-94C5-9F97217A9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FF7D-1548-4DB0-9885-B3F500D8D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D1E3-189B-405F-B2D3-0070D270C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B2D5-719D-4DFA-BE00-94B89FF5C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EEFE-CE3B-4CB2-A6C6-B8DA14FFC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36A5-A840-4B64-BA30-42A540531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375E-F041-4021-9D32-D1C036102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4180-4BD3-4C70-8134-914AF7DBB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D569-AF08-4769-B86A-E52FD5144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8326-BCF3-4441-80BF-07E37971A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DE97-434A-4BC0-A3E6-DE0C6F8F6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797E-4D2B-43BD-B83B-959D2D8E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B226C-2B95-4C4A-ACB4-5933BC5B3B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60 секунд, которые изменят вашу жизнь.mp4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8258040" cy="619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58920" y="165240"/>
            <a:ext cx="691344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Мотив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95280" y="1123920"/>
            <a:ext cx="8424720" cy="759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использование метафор(обсуждение рисунков)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обсуждение древней или современной       прит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демонстрация мультфильмов, снятых по мотивам притч и их обсуж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мудрые изречения философов, цитаты писа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одительское собрание включает в себя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 основных компонент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74"/>
              </a:spcBef>
              <a:spcAft>
                <a:spcPts val="374"/>
              </a:spcAft>
              <a:buClr>
                <a:srgbClr val="224b50"/>
              </a:buClr>
              <a:buFont typeface="Wingdings" charset="2"/>
              <a:buChar char="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Анализ учебных достижений учащихся класс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74"/>
              </a:spcBef>
              <a:spcAft>
                <a:spcPts val="374"/>
              </a:spcAft>
              <a:buClr>
                <a:srgbClr val="224b50"/>
              </a:buClr>
              <a:buFont typeface="Wingdings" charset="2"/>
              <a:buChar char="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Знакомство родителей с состоянием эмоционального климата в класс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74"/>
              </a:spcBef>
              <a:spcAft>
                <a:spcPts val="374"/>
              </a:spcAft>
              <a:buClr>
                <a:srgbClr val="224b50"/>
              </a:buClr>
              <a:buFont typeface="Wingdings" charset="2"/>
              <a:buChar char="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Психолого - педагогическое просвеще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74"/>
              </a:spcBef>
              <a:spcAft>
                <a:spcPts val="374"/>
              </a:spcAft>
              <a:buClr>
                <a:srgbClr val="224b50"/>
              </a:buClr>
              <a:buFont typeface="Wingdings" charset="2"/>
              <a:buChar char="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Обсуждение организационных вопро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74"/>
              </a:spcBef>
              <a:spcAft>
                <a:spcPts val="374"/>
              </a:spcAft>
              <a:buClr>
                <a:srgbClr val="224b50"/>
              </a:buClr>
              <a:buFont typeface="Wingdings" charset="2"/>
              <a:buChar char="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Рефлекс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74"/>
              </a:spcBef>
              <a:spcAft>
                <a:spcPts val="374"/>
              </a:spcAft>
              <a:buClr>
                <a:srgbClr val="224b50"/>
              </a:buClr>
              <a:buFont typeface="Wingdings" charset="2"/>
              <a:buChar char="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Личные беседы с родител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4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Игровые момен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C:\Users\user\Desktop\eZre0fd_B9A.jpg"/>
          <p:cNvPicPr/>
          <p:nvPr/>
        </p:nvPicPr>
        <p:blipFill>
          <a:blip r:embed="rId1"/>
          <a:stretch/>
        </p:blipFill>
        <p:spPr>
          <a:xfrm>
            <a:off x="3780000" y="1892160"/>
            <a:ext cx="258732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4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одведение итог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68360" y="1892160"/>
            <a:ext cx="8136000" cy="40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24b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4b50"/>
                </a:solidFill>
                <a:latin typeface="Arial"/>
              </a:rPr>
              <a:t>произнести цита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24b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4b50"/>
                </a:solidFill>
                <a:latin typeface="Arial"/>
              </a:rPr>
              <a:t>упражнение «портфельчик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24b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4b50"/>
                </a:solidFill>
                <a:latin typeface="Arial"/>
              </a:rPr>
              <a:t>вручение памя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4360" y="620640"/>
            <a:ext cx="820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олько в единстве процесса обучения и воспитания и при активном участии в нем сообществ: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еник, родитель и учитель, можно считать ученика моделью высоко качественного воспитания и образования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" descr="92"/>
          <p:cNvPicPr/>
          <p:nvPr/>
        </p:nvPicPr>
        <p:blipFill>
          <a:blip r:embed="rId1"/>
          <a:stretch/>
        </p:blipFill>
        <p:spPr>
          <a:xfrm>
            <a:off x="0" y="4394160"/>
            <a:ext cx="1682640" cy="244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98100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вершенствование работы с родителями в условиях модернизации образовательного процес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655280" y="4292280"/>
            <a:ext cx="7488360" cy="17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68"/>
                </a:solidFill>
                <a:latin typeface="Arial"/>
              </a:rPr>
              <a:t>Совершенствование работы с родителями в условиях модернизации образовательного про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762120" y="890640"/>
            <a:ext cx="7619760" cy="5076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4360" y="620640"/>
            <a:ext cx="820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ru-RU" sz="3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менно семейное воспитание во многом определяет, каким станет человек. Ни государство, ни даже лучшие педагоги ребенку заменить семью не могут». В. В. Путин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411120" y="3860640"/>
            <a:ext cx="4176720" cy="2560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ормы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11280" y="1413000"/>
            <a:ext cx="807552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Индивидуа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Группов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Коллектив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дивидуальные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посещение на до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приглашение в школ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индивидуальные консультации            </a:t>
            </a: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педаг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Группов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родительский лектор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тематические консульта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классные детские мероприят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родительские вече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ллективны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классные родительские собр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семейные клуб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общешкольные родительские собр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дни открытых двер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концер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выставки учебных рабо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творческие отче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09:59:56Z</dcterms:created>
  <dc:creator>AK</dc:creator>
  <dc:description/>
  <dc:language>en-US</dc:language>
  <cp:lastModifiedBy>User</cp:lastModifiedBy>
  <dcterms:modified xsi:type="dcterms:W3CDTF">2019-01-16T12:46:17Z</dcterms:modified>
  <cp:revision>51</cp:revision>
  <dc:subject/>
  <dc:title>Слайд 1</dc:title>
</cp:coreProperties>
</file>