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F8F7-2C97-4C30-9CD6-FCAF636065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2105-8925-4110-BEEF-1FD0B94A81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B626-B220-4EEE-A389-B0ACE093F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8AA3-5B0C-496C-A2F3-C7C1DBCF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8B1B-25FD-4844-92AF-962C30894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4FF9-31A2-438A-82E0-E9698984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5212-5292-4B06-A1EB-0D421D0D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FEF4-1328-45E8-B2B3-306143E7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DE0C-5A52-4740-8B74-B993B071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EDEC-822B-44FA-A506-D6F6B40B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E599-777F-4227-8615-772173B2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940F-27A8-4B74-B15A-4A0D0BFF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2B8F-C6BA-456D-9BE4-08B4B10D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6EDE-482D-4B66-89E2-38C735D8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C258-7CD7-48D9-8DA2-C9392C36B5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60 секунд, которые изменят вашу жизнь.mp4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258040" cy="61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920" y="165240"/>
            <a:ext cx="691344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отив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95280" y="1123920"/>
            <a:ext cx="8424720" cy="759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использование метафор(обсуждение рисунков)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бсуждение древней или современной       прит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емонстрация мультфильмов, снятых по мотивам притч и их обсу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мудрые изречения философов, цитаты писа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дительское собрание включает в себя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 основных компонен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Анализ учебных достижений учащихся клас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Знакомство родителей с состоянием эмоционального климата в класс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Психолого - педагогическое просвещ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Обсуждение организационных вопр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Рефлекс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Личные беседы с родит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4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гровые мо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:\Users\user\Desktop\eZre0fd_B9A.jpg"/>
          <p:cNvPicPr/>
          <p:nvPr/>
        </p:nvPicPr>
        <p:blipFill>
          <a:blip r:embed="rId1"/>
          <a:stretch/>
        </p:blipFill>
        <p:spPr>
          <a:xfrm>
            <a:off x="3780000" y="1892160"/>
            <a:ext cx="258732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4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1892160"/>
            <a:ext cx="8136000" cy="40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24b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4b50"/>
                </a:solidFill>
                <a:latin typeface="Arial"/>
              </a:rPr>
              <a:t>произнести цита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4b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4b50"/>
                </a:solidFill>
                <a:latin typeface="Arial"/>
              </a:rPr>
              <a:t>упражнение «портфельчи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4b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4b50"/>
                </a:solidFill>
                <a:latin typeface="Arial"/>
              </a:rPr>
              <a:t>вручение памя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4360" y="620640"/>
            <a:ext cx="82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олько в единстве процесса обучения и воспитания и при активном участии в нем сообществ: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ник, родитель и учитель, можно считать ученика моделью высоко качественного воспитания и образования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92"/>
          <p:cNvPicPr/>
          <p:nvPr/>
        </p:nvPicPr>
        <p:blipFill>
          <a:blip r:embed="rId1"/>
          <a:stretch/>
        </p:blipFill>
        <p:spPr>
          <a:xfrm>
            <a:off x="0" y="4394160"/>
            <a:ext cx="1682640" cy="244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98100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вершенствование работы с родителями в условиях модернизации образовательного проце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55280" y="4292280"/>
            <a:ext cx="7488360" cy="17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Совершенствование работы с родителями в условиях модернизации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762120" y="890640"/>
            <a:ext cx="7619760" cy="507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4360" y="620640"/>
            <a:ext cx="82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енно семейное воспитание во многом определяет, каким станет человек. Ни государство, ни даже лучшие педагоги ребенку заменить семью не могут». В. В. Путин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11120" y="3860640"/>
            <a:ext cx="4176720" cy="2560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ы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1280" y="1413000"/>
            <a:ext cx="80755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Индивиду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Групп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оллектив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уальны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посещение на д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приглашение в школ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индивидуальные консультации            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педаг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руппов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одительский лектор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тематические консульт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лассные детские мероприят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одительские веч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ллективны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классные родительские собр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семейные клу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общешкольные родительские собр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дни открытых две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конце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выставки учебных рабо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творческие отч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09:59:56Z</dcterms:created>
  <dc:creator>AK</dc:creator>
  <dc:description/>
  <dc:language>en-US</dc:language>
  <cp:lastModifiedBy>User</cp:lastModifiedBy>
  <dcterms:modified xsi:type="dcterms:W3CDTF">2019-01-16T12:46:17Z</dcterms:modified>
  <cp:revision>51</cp:revision>
  <dc:subject/>
  <dc:title>Слайд 1</dc:title>
</cp:coreProperties>
</file>